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87F-2061-4EAA-8F27-F1BB5B9C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088-16F3-45AB-9C7B-EC46463F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23CE-A67C-41E0-8F2F-B01DC8CC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BC1D-5258-4280-B0D2-A9F823C6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061-1D0B-44AB-AC8A-8E653221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ED6-E99F-4807-8D6C-1A9583D5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238-8E97-4B6C-8F3F-6F9812B0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1A04-4F81-46D8-911D-62382AB0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F2E-3F01-46D6-BD25-EA01FF34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A39-8F0C-4B16-8EBE-15F75BF2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6624-636D-4C15-B873-6F2CB199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1B4-70F9-42BB-A693-F2C9AB48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1C95-3273-4E79-BF6B-34BD00467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5.xml"/><Relationship Id="rId14" Type="http://schemas.openxmlformats.org/officeDocument/2006/relationships/slide" Target="slide13.xml"/><Relationship Id="rId15" Type="http://schemas.openxmlformats.org/officeDocument/2006/relationships/slide" Target="slide19.xml"/><Relationship Id="rId16" Type="http://schemas.openxmlformats.org/officeDocument/2006/relationships/slide" Target="slide20.xml"/><Relationship Id="rId17" Type="http://schemas.openxmlformats.org/officeDocument/2006/relationships/slide" Target="slide21.xml"/><Relationship Id="rId18" Type="http://schemas.openxmlformats.org/officeDocument/2006/relationships/slide" Target="slide22.xml"/><Relationship Id="rId19" Type="http://schemas.openxmlformats.org/officeDocument/2006/relationships/slide" Target="slide23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6.xml"/><Relationship Id="rId23" Type="http://schemas.openxmlformats.org/officeDocument/2006/relationships/slide" Target="slide27.xml"/><Relationship Id="rId2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5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62920" y="3049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838080"/>
          <a:ext cx="9144000" cy="10652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00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114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019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105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6019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114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5105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31240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4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124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41148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5105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60199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5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6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7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18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133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4114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51055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6019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9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20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21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22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23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43800" y="4114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51055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6019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30492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16694" y="3837"/>
                </a:moveTo>
                <a:lnTo>
                  <a:pt x="19270" y="6448"/>
                </a:lnTo>
                <a:lnTo>
                  <a:pt x="19270" y="4707"/>
                </a:lnTo>
                <a:lnTo>
                  <a:pt x="21046" y="4707"/>
                </a:lnTo>
                <a:lnTo>
                  <a:pt x="21046" y="8224"/>
                </a:lnTo>
                <a:lnTo>
                  <a:pt x="23657" y="10800"/>
                </a:lnTo>
                <a:lnTo>
                  <a:pt x="22003" y="10800"/>
                </a:lnTo>
                <a:lnTo>
                  <a:pt x="22003" y="17989"/>
                </a:lnTo>
                <a:lnTo>
                  <a:pt x="11385" y="17989"/>
                </a:lnTo>
                <a:lnTo>
                  <a:pt x="11385" y="10800"/>
                </a:lnTo>
                <a:lnTo>
                  <a:pt x="9731" y="10800"/>
                </a:lnTo>
                <a:close/>
              </a:path>
              <a:path fill="darkenLess" w="33388" h="21600">
                <a:moveTo>
                  <a:pt x="19270" y="6448"/>
                </a:moveTo>
                <a:lnTo>
                  <a:pt x="19270" y="4707"/>
                </a:lnTo>
                <a:lnTo>
                  <a:pt x="21046" y="4707"/>
                </a:lnTo>
                <a:lnTo>
                  <a:pt x="21046" y="8224"/>
                </a:lnTo>
                <a:close/>
              </a:path>
              <a:path fill="darkenLess" w="33388" h="21600">
                <a:moveTo>
                  <a:pt x="15771" y="14299"/>
                </a:moveTo>
                <a:lnTo>
                  <a:pt x="17616" y="14299"/>
                </a:lnTo>
                <a:lnTo>
                  <a:pt x="17616" y="17989"/>
                </a:lnTo>
                <a:lnTo>
                  <a:pt x="22003" y="17989"/>
                </a:lnTo>
                <a:lnTo>
                  <a:pt x="22003" y="10800"/>
                </a:lnTo>
                <a:lnTo>
                  <a:pt x="11385" y="10800"/>
                </a:lnTo>
                <a:lnTo>
                  <a:pt x="11385" y="17989"/>
                </a:lnTo>
                <a:lnTo>
                  <a:pt x="15771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Default</cp:lastModifiedBy>
  <dcterms:modified xsi:type="dcterms:W3CDTF">2009-01-12T18:05:36Z</dcterms:modified>
  <cp:revision>3</cp:revision>
  <dc:subject/>
  <dc:title>Slide 1</dc:title>
</cp:coreProperties>
</file>